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796-C4FC-4A55-A8B8-A998765F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6C3-F3AB-41A1-846C-D768EA09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73D-C7EE-42EC-814E-EDE3D5B9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3FE-EDBE-4586-BF08-8F6DCE68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1D8-46FE-4F79-9A32-138CF96F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202-5DFF-4C6B-A21B-878EFC8B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E13-181D-4686-BC58-55EB9704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027-7372-4E0A-9D56-B8025EC5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D5D-441B-46F3-BB39-4C0E807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974-E613-4049-9956-89954899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1F6-16F1-450C-8890-0A13A592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BD7-3F2F-4ECE-9870-C4DF590A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1300-B385-4ECD-B8FA-16F2478F1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The class is ma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silly noi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joeHand 2"/>
              </a:rPr>
              <a:t>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joeHand 2"/>
              </a:rPr>
              <a:t>Tapping, squeaky shoes, animal sounds, farting imitation, whistling, popping, clicking pen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lass is making silly no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joeHand 2"/>
              </a:rPr>
              <a:t>Author’s Advice</a:t>
            </a:r>
            <a:r>
              <a:rPr b="1" lang="en-US" sz="3600" spc="-1" strike="noStrike">
                <a:solidFill>
                  <a:srgbClr val="ffffff"/>
                </a:solidFill>
                <a:latin typeface="joeHand 2"/>
              </a:rPr>
              <a:t>: Remain friendly, avoid raising your vo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Gentle Repri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Light Rem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Assertive I-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Threat, using peer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Embarrass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alibri"/>
              </a:rPr>
              <a:t>Students are talking while you are talking or while other students are sharing out answ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Talking when teacher is tal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uggestions from the Auth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aise your voice and say “I need you to be quie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wer your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p teaching and stand sil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reaten to give ho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ention staying af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cus on one tal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A student refuses to obey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Leaves the room without permission, won’t leave the room, won’t start working, stop talking, move to another seat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Student refuses to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obey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Suggestions from the Author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alk to the student’s desk and quietly explain the problem and tell the student you will talk to him/her after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rite or type out a short statement to an administrator about the situation (or a referral), show the note to the student and state that you will destroy the note if the student compl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Try not to show that the student’s behavior is bothering y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llow the student to save face and keep his/her dignity. Avoid an audience, speak in a whisper. Avoid making it into a big iss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16:15Z</dcterms:created>
  <dc:creator>ccps</dc:creator>
  <dc:description/>
  <cp:keywords/>
  <dc:language>en-US</dc:language>
  <cp:lastModifiedBy>ccps</cp:lastModifiedBy>
  <dcterms:modified xsi:type="dcterms:W3CDTF">2011-03-30T17:11:37Z</dcterms:modified>
  <cp:revision>3</cp:revision>
  <dc:subject/>
  <dc:title>What Would You Do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78837</vt:lpwstr>
  </property>
</Properties>
</file>